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F0D9-15CE-45E8-B4B4-D7C44CF7A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A8E2-C0BA-47F0-BD55-98C9948FD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D6BA-DE41-409F-BE75-A89DF3FC7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0F28-3F98-4EDC-9179-E6D5FD0F1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1D0C-A79B-4C26-B72C-3D33ACC5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8D5B-D04C-4D1D-B5B8-1B10AA0AA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B744-69E0-4ACD-A1A6-1EE78F6A7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7D05-0B8F-47E4-A95A-8727F84C3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6A9C-3FF1-4F4A-8020-D02B6F02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2E1F-D286-434E-8049-D961DC03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CFF5-DA60-47EB-A06F-00EF92ED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EFF22-843B-4516-BF1C-5F3AFEBC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9BD2-DFB8-4092-83E0-07DF6E7D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41B1-B22A-44B1-81ED-B65B5197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6B8D-E52A-43E3-81E9-F1B7854A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B217-3363-4844-AAAA-7EEE0724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47E1-EF8F-469D-8A35-D09D3970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F3BA-B312-41E7-A7A9-25470BCE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E72C-8DDE-4089-8932-3280144D5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1D89-8A99-4E7A-BC65-C36AFB392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1BB8-A8E7-4B23-BFE3-B4AAE507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61A9-6ED3-4CF5-8889-F82C9C6D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FAD2-EAC4-49C7-8A29-C479F0F6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E4A3-FD17-42E4-9688-8E0351C4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69F8-AA90-41CB-BED1-EAA81D79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BD52-741B-490D-BB23-04062E3C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31FA-F865-4AF1-BF70-C183F75B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319A-6032-48B0-80F2-B7D8F8097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6BB9-68CB-42F6-88F9-B5B8DBDF83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968560"/>
            <a:ext cx="7772400" cy="16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едијатрија – Исхрана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иљана Вулети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3352680" y="228600"/>
            <a:ext cx="1619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250920"/>
            <a:ext cx="8153640" cy="12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утритивне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требе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етета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ит Д </a:t>
            </a:r>
            <a:r>
              <a:rPr b="0" i="1" lang="sl-SI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sl-SI" sz="3200" spc="-1" strike="noStrike">
                <a:solidFill>
                  <a:srgbClr val="000000"/>
                </a:solidFill>
                <a:latin typeface="Times New Roman"/>
              </a:rPr>
              <a:t>IJ/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6320" y="1676520"/>
          <a:ext cx="4495680" cy="4483080"/>
        </p:xfrm>
        <a:graphic>
          <a:graphicData uri="http://schemas.openxmlformats.org/drawingml/2006/table">
            <a:tbl>
              <a:tblPr/>
              <a:tblGrid>
                <a:gridCol w="1753920"/>
                <a:gridCol w="978120"/>
                <a:gridCol w="938160"/>
                <a:gridCol w="825480"/>
              </a:tblGrid>
              <a:tr h="13255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zr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god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R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36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– 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 –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–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–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– 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476600" y="1649520"/>
          <a:ext cx="4594320" cy="4575240"/>
        </p:xfrm>
        <a:graphic>
          <a:graphicData uri="http://schemas.openxmlformats.org/drawingml/2006/table">
            <a:tbl>
              <a:tblPr/>
              <a:tblGrid>
                <a:gridCol w="1532160"/>
                <a:gridCol w="1530360"/>
                <a:gridCol w="1531800"/>
              </a:tblGrid>
              <a:tr h="1027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zrast (god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AR,CN 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M, FNB,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≤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-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–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≥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UDNI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OJIL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TextBox 7"/>
          <p:cNvSpPr/>
          <p:nvPr/>
        </p:nvSpPr>
        <p:spPr>
          <a:xfrm>
            <a:off x="155520" y="6319800"/>
            <a:ext cx="4157640" cy="477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200" spc="-1" strike="noStrike">
                <a:solidFill>
                  <a:srgbClr val="ffffff"/>
                </a:solidFill>
                <a:latin typeface="Arial Narrow"/>
              </a:rPr>
              <a:t>World Health Organization, 1974; National Academy of Science (USA),</a:t>
            </a: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i="1" lang="sl-SI" sz="1200" spc="-1" strike="noStrike">
                <a:solidFill>
                  <a:srgbClr val="ffffff"/>
                </a:solidFill>
                <a:latin typeface="Arial Narrow"/>
              </a:rPr>
              <a:t>1989;</a:t>
            </a: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i="1" lang="sl-SI" sz="1200" spc="-1" strike="noStrike">
                <a:solidFill>
                  <a:srgbClr val="ffffff"/>
                </a:solidFill>
                <a:latin typeface="Arial Narrow"/>
              </a:rPr>
              <a:t>Department of Health (UK), 199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4571640" y="6334200"/>
            <a:ext cx="4460400" cy="459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Narrow"/>
              </a:rPr>
              <a:t>( AAP, CN </a:t>
            </a: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– American Academy of Pediatrics, Committee on Nutrition, 200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Narrow"/>
              </a:rPr>
              <a:t>FNB </a:t>
            </a: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– </a:t>
            </a:r>
            <a:r>
              <a:rPr b="1" i="1" lang="en-US" sz="1200" spc="-1" strike="noStrike">
                <a:solidFill>
                  <a:srgbClr val="ffffff"/>
                </a:solidFill>
                <a:latin typeface="Arial Narrow"/>
              </a:rPr>
              <a:t>Institute of Medicine, </a:t>
            </a: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Food and Nutrition Board, 2010 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955440" y="958680"/>
            <a:ext cx="7217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ОЈЧ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ОР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ВАКОДНЕВНО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НОС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400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В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З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ОЖ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УД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ШТЕТ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АК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АКО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ЗЛАЖ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УНЦ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ОЈЧ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ДАПТИРАНО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ОРМУЛ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ХТЕВ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ДАТН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НО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495360" y="914400"/>
            <a:ext cx="8245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ЗИРАЊ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Т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АЖ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НЦ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ОГУЋ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А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ТРАЊЕЊ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ХИСТЕРОЛ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МИСТЕРОЛ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УШТЕЊЕ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ТРАЊУЈ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А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БРА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АРАЊЕ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ЛАНИ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ЧНО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ИШ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АХИТИ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0520" y="1447920"/>
            <a:ext cx="4343400" cy="53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ОСТЕОМАЛАЦИЈА</a:t>
            </a:r>
            <a:r>
              <a:rPr b="1" lang="pl-PL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У</a:t>
            </a:r>
            <a:r>
              <a:rPr b="1" lang="pl-PL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ТОКУ</a:t>
            </a:r>
            <a:r>
              <a:rPr b="1" lang="pl-PL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РАСТА</a:t>
            </a:r>
            <a:r>
              <a:rPr b="1" lang="pl-PL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lang="pl-PL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РАЗВОЈА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                 </a:t>
            </a:r>
            <a:r>
              <a:rPr b="1" lang="sr-RS" sz="1900" spc="-1" strike="noStrike" u="sng">
                <a:solidFill>
                  <a:srgbClr val="000000"/>
                </a:solidFill>
                <a:uFillTx/>
                <a:latin typeface="Arial Narrow"/>
              </a:rPr>
              <a:t>ОСТЕОГЕНЕЗА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 Narrow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веома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сложен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динамићан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процес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метаболизам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en-US" sz="1900" spc="-1" strike="noStrike">
                <a:solidFill>
                  <a:srgbClr val="000000"/>
                </a:solidFill>
                <a:latin typeface="Arial Narrow"/>
              </a:rPr>
              <a:t>Ca i P 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доминантан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 Narrow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ОСТЕОМАЛАЦИЈА</a:t>
            </a:r>
            <a:r>
              <a:rPr b="1" lang="en-US" sz="19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изостаје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минерални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део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ОСТЕОПОРОЗА</a:t>
            </a:r>
            <a:r>
              <a:rPr b="1" lang="en-US" sz="1900" spc="-1" strike="noStrike">
                <a:solidFill>
                  <a:srgbClr val="000000"/>
                </a:solidFill>
                <a:latin typeface="Arial Narrow"/>
              </a:rPr>
              <a:t>  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недостаје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органски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матри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x -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протеини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ОСТЕОПЕНИЈА</a:t>
            </a:r>
            <a:r>
              <a:rPr b="1" lang="en-US" sz="19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остеомалација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остеопороза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заједно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l-PL" sz="1900" spc="-1" strike="noStrike">
                <a:solidFill>
                  <a:srgbClr val="ff0000"/>
                </a:solidFill>
                <a:latin typeface="Arial Narrow"/>
              </a:rPr>
              <a:t>       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723920" y="1600200"/>
            <a:ext cx="39625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sr-RS" sz="2000" spc="-1" strike="noStrike">
                <a:solidFill>
                  <a:srgbClr val="000000"/>
                </a:solidFill>
                <a:latin typeface="Arial Narrow"/>
              </a:rPr>
              <a:t>Класификација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 Narrow"/>
              </a:rPr>
              <a:t>рахита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 Narrow"/>
              </a:rPr>
              <a:t>према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 Narro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 Narrow"/>
              </a:rPr>
              <a:t>                 </a:t>
            </a:r>
            <a:r>
              <a:rPr b="0" lang="sr-RS" sz="2000" spc="-1" strike="noStrike">
                <a:solidFill>
                  <a:srgbClr val="000000"/>
                </a:solidFill>
                <a:latin typeface="Arial Narrow"/>
              </a:rPr>
              <a:t>етиопатогенези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) 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Ca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Arial Narrow"/>
              </a:rPr>
              <a:t>ДЕФИЦИТНИ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Vi D   deficitn</a:t>
            </a:r>
            <a:r>
              <a:rPr b="0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V</a:t>
            </a:r>
            <a:r>
              <a:rPr b="0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t D  zav</a:t>
            </a:r>
            <a:r>
              <a:rPr b="0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sn</a:t>
            </a:r>
            <a:r>
              <a:rPr b="0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 T</a:t>
            </a:r>
            <a:r>
              <a:rPr b="0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p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V</a:t>
            </a:r>
            <a:r>
              <a:rPr b="0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t D  zav</a:t>
            </a:r>
            <a:r>
              <a:rPr b="0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sn</a:t>
            </a:r>
            <a:r>
              <a:rPr b="0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 T</a:t>
            </a:r>
            <a:r>
              <a:rPr b="0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p I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 Narrow"/>
              </a:rPr>
              <a:t>Б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)  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P </a:t>
            </a:r>
            <a:r>
              <a:rPr b="1" i="1" lang="sr-R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DEFIC</a:t>
            </a:r>
            <a:r>
              <a:rPr b="1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TN</a:t>
            </a:r>
            <a:r>
              <a:rPr b="1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( Vit D rezsitentni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 Narrow"/>
              </a:rPr>
              <a:t>Фамилијарна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 Narrow"/>
              </a:rPr>
              <a:t>хипофосфатемија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Fanconi S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АХИТИС   ВИТ.  Д  ДЕФИЦИТ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АЈЧЕШЋИ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едовољан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унос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Вит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одојчади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ругој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оловини жив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едостатак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фотолиз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кој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фаворизуј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малапсорпцију калцијум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злажу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сунцу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тамн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у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еадаптираним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крављим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млек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реобилан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унос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житар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КЛИНИЧКА СЛИКА РАХИТИС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ШТАН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ЕФОРМИТЕ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СТЕОМАЛАЦИЈ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ХИПЕРПЛАЗИЈ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стеоидног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ткив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Глав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грудн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ш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екстремите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раниотабе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F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касн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атварањем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Грудн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ш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вонаст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, бројаниц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Харисонов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ва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5486400" y="1533600"/>
            <a:ext cx="3124080" cy="509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КЛИНИЧКА СЛИКА РАХИТИС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исталним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крајцим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екстремитет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задебљањ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одручју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етафиз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gena</a:t>
            </a:r>
            <a:r>
              <a:rPr b="0" i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RS" sz="22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i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ru</a:t>
            </a:r>
            <a:r>
              <a:rPr b="0" i="1" lang="sr-RS" sz="2200" spc="-1" strike="noStrike">
                <a:solidFill>
                  <a:srgbClr val="000000"/>
                </a:solidFill>
                <a:latin typeface="Calibri"/>
              </a:rPr>
              <a:t>ра</a:t>
            </a:r>
            <a:r>
              <a:rPr b="0" i="1" lang="sr-Latn-R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sr-RS" sz="2200" spc="-1" strike="noStrike">
                <a:solidFill>
                  <a:srgbClr val="000000"/>
                </a:solidFill>
                <a:latin typeface="Calibri"/>
              </a:rPr>
              <a:t>ара</a:t>
            </a:r>
            <a:r>
              <a:rPr b="0" i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RS" sz="2200" spc="-1" strike="noStrike">
                <a:solidFill>
                  <a:srgbClr val="000000"/>
                </a:solidFill>
                <a:latin typeface="Calibri"/>
              </a:rPr>
              <a:t>ва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i="1" lang="sr-RS" sz="2200" spc="-1" strike="noStrike">
                <a:solidFill>
                  <a:srgbClr val="000000"/>
                </a:solidFill>
                <a:latin typeface="Calibri"/>
              </a:rPr>
              <a:t>г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пшт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ишичн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лабост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истензиј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абдомен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оторн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ретардациј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хипокалцемијск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тетаниј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1"/>
          <a:stretch/>
        </p:blipFill>
        <p:spPr>
          <a:xfrm>
            <a:off x="6280200" y="2428920"/>
            <a:ext cx="2711520" cy="4048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2"/>
          <a:stretch/>
        </p:blipFill>
        <p:spPr>
          <a:xfrm>
            <a:off x="3733920" y="4714920"/>
            <a:ext cx="236196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РТГ ЗНАЦИ РАХИТИС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Content Placeholder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008520" cy="4525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4267080" y="1581120"/>
            <a:ext cx="2800440" cy="26859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4191120" y="4618080"/>
            <a:ext cx="457200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Rtg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скелета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деминерализациј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 ,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деформациј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задебљањ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метафиз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,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широк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епифизометафизалн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границ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најизражениј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ручј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колен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ДИЈАГНОЗА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2819160"/>
            <a:ext cx="82296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арактеристичн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изикалн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алаз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овишен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лкалн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осфатаз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бично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ормалан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ек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хипер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TH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нижен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25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OH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иж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вред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ТЕРАПИЈ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000000"/>
                </a:solidFill>
                <a:latin typeface="Calibri"/>
              </a:rPr>
              <a:t>Витамин Д </a:t>
            </a:r>
            <a:r>
              <a:rPr b="1" lang="sr-Latn-RS" sz="2500" spc="-1" strike="noStrike">
                <a:solidFill>
                  <a:srgbClr val="000000"/>
                </a:solidFill>
                <a:latin typeface="Calibri"/>
              </a:rPr>
              <a:t>2000 -5000 IJ dnevno 4-8 nedelja (10 -20 kapi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декват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нос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рекција грешака у исхрани , м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кроб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итат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фата, виш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л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 млечних производа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ЛК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ОСФ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ОСЛ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1-2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Д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АД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3-4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Д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ОРМАЛН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TG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ME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 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ВИДЉИВ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-3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ЕЉ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осле санације уобичајена профилакс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52280" y="228600"/>
            <a:ext cx="8602920" cy="65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ИТАМ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 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БИОЛ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ШКИ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БЛИЦИ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тероидн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еривата холестерола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erol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i="1" lang="sl-SI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olekalciferol (D</a:t>
            </a:r>
            <a:r>
              <a:rPr b="1" i="1" lang="sl-SI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Р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Ж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ОВИТАМ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7 -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ЕХ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ДР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sl-SI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НЧЕВ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СВ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ЛОС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Н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ВИТ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r>
              <a:rPr b="1" lang="sl-SI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ХОЛЕКА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ЦИФ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ОЛ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ontent Placeholder 3" descr="Reaction-Dehydrocholesterol-PrevitaminD3.png"/>
          <p:cNvPicPr/>
          <p:nvPr/>
        </p:nvPicPr>
        <p:blipFill>
          <a:blip r:embed="rId1"/>
          <a:stretch/>
        </p:blipFill>
        <p:spPr>
          <a:xfrm>
            <a:off x="3594240" y="3276720"/>
            <a:ext cx="5168880" cy="121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533520" y="175248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ЗАВИСИ ОД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географс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шири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годишње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об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ужи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злагањ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сунц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количи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мелани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кож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об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а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ужи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злагањ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сунц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степе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заштит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сун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Content Placeholder 3" descr="Skinlayers.png"/>
          <p:cNvPicPr/>
          <p:nvPr/>
        </p:nvPicPr>
        <p:blipFill>
          <a:blip r:embed="rId1"/>
          <a:stretch/>
        </p:blipFill>
        <p:spPr>
          <a:xfrm>
            <a:off x="4648320" y="1766880"/>
            <a:ext cx="3962160" cy="371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Rectangle 3"/>
          <p:cNvSpPr/>
          <p:nvPr/>
        </p:nvSpPr>
        <p:spPr>
          <a:xfrm>
            <a:off x="3962520" y="5834160"/>
            <a:ext cx="4724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епидермални кератоцити и дермални фибробласт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457200" y="457200"/>
            <a:ext cx="754380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Степе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кожн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родукциј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витамин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R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88280" y="228600"/>
            <a:ext cx="9180000" cy="69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Р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ХРАНА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животињског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рекла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ибљ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љ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иб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жуманц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џигериц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огаће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леч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ормул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утер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ТРАНСПО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itamin D Binding Protein ( DBP )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ru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св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ор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ризација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ксичн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е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боли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 lumisterol, tahisterol, suprasterol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sr-R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sr-Latn-R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5,6 trans holekacifer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меланински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заштитни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кто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пер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нтно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кожно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сквамацијом ,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ниченим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 DBP )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транспортним капацитето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токсикација Витамином Д излагањем сунцу немогућ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Унос храном или суплемената – липосолубилне супстанце – хиломикрон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циркулацију –лимфоток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228600" y="76320"/>
            <a:ext cx="5562720" cy="64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ЗИОЛОШК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ЛОГ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. Д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ГУЛАЦ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ХОМЕОСТАЗ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i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ИНЕРАЛИЗАЦ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ОШТАНОГ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ГЛОБНОГ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КИ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СИНТЕ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РАНСПОРТНОГ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ТЕИ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ЦРЕВИ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ТИМУЛИШ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АПС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i="1" lang="sl-SI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sl-SI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а</a:t>
            </a:r>
            <a:r>
              <a:rPr b="0" i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AK</a:t>
            </a:r>
            <a:r>
              <a:rPr b="0" i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УБУЛИ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ЛИФЕРАЦИЈ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ИФЕРЕНЦИЈАЦИЈ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ЋЕЛ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ИМУНОРЕГУЛАЦ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5500800" y="838080"/>
            <a:ext cx="3414600" cy="5434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Content Placeholder 3" descr="001.JPG"/>
          <p:cNvPicPr/>
          <p:nvPr/>
        </p:nvPicPr>
        <p:blipFill>
          <a:blip r:embed="rId1"/>
          <a:stretch/>
        </p:blipFill>
        <p:spPr>
          <a:xfrm>
            <a:off x="712800" y="1295280"/>
            <a:ext cx="7759800" cy="54882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"/>
          <p:cNvSpPr/>
          <p:nvPr/>
        </p:nvSpPr>
        <p:spPr>
          <a:xfrm>
            <a:off x="838080" y="528480"/>
            <a:ext cx="76201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ЗИОЛОШК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ЛОГ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"/>
          <p:cNvSpPr/>
          <p:nvPr/>
        </p:nvSpPr>
        <p:spPr>
          <a:xfrm>
            <a:off x="228600" y="390600"/>
            <a:ext cx="73152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 Д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ONCLASSIC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ФEКТ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304920" y="1203480"/>
            <a:ext cx="5181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одулација Т и Б лимфоци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упресија реналне секрециј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тимулација инсулинске секрециј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гулација синтезе и ослобађањ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TH, ТSХ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 неких других хормо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Content Placeholder 3" descr="006.JPG"/>
          <p:cNvPicPr/>
          <p:nvPr/>
        </p:nvPicPr>
        <p:blipFill>
          <a:blip r:embed="rId1"/>
          <a:stretch/>
        </p:blipFill>
        <p:spPr>
          <a:xfrm>
            <a:off x="95400" y="3048120"/>
            <a:ext cx="896760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228600" y="114300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елациј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и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ефицит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оле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малигните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( коло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ростат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ој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јајни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аутоиму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боле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( мултипл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склероз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Р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ти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алергијс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V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еуролош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сихијатријс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и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ефици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око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рудноћ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оре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ежељени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ефека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фету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овећа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ризи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гестационо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ијабетес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рееклампси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хируршки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боле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ревремено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орођа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274680" y="533520"/>
            <a:ext cx="42926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 Д ПОТРЕБ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-762120" y="2644920"/>
            <a:ext cx="9753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марно се задовољавају излагањем сунц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андрадна храна генерално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довољ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да покрије потреб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3 x недељно директно излагање сунц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-15 мин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-15% површин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же ( лице, руке, ноге ) у средњеевропским климатским условима , могу задовољити потребе за вит. 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322200" y="685800"/>
            <a:ext cx="42498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 Д ПОТРЕБ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18:37:51Z</dcterms:created>
  <dc:creator>No Name</dc:creator>
  <dc:description/>
  <dc:language>en-US</dc:language>
  <cp:lastModifiedBy>User</cp:lastModifiedBy>
  <dcterms:modified xsi:type="dcterms:W3CDTF">2020-09-27T16:59:19Z</dcterms:modified>
  <cp:revision>39</cp:revision>
  <dc:subject/>
  <dc:title>PowerPoint Presentation</dc:title>
</cp:coreProperties>
</file>