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EA45-9BC7-4E34-9D2B-6F5A02DCF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D376-6FCD-4B69-BD83-2AB26C9A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397E-095E-4776-81F2-93D32F25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BB63-CAA4-4964-B61C-7A66C606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225B-85D6-407A-8B84-D1E7D496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D67C-8C77-4DD8-A774-BCB698AE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C97-A256-4C2A-A6CA-1B141D9E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FC91-7A32-4D10-B766-C5C9FC33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E9B8-D0A9-4DA5-8D9E-B5037D7F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7A2B-9DED-4785-96FF-E6F1EC17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AC30-2EAB-4AE0-AF70-8435C3CB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6D97-8CFC-42E5-B2BF-034FC25A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56F3-A041-4093-BE0E-FA01B3917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968560"/>
            <a:ext cx="777240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дијатрија – Исхрана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иљана Вулет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1619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52280" y="587520"/>
            <a:ext cx="1198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АТОГЕНЕЗ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1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ЕДОВ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Љ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У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С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ПЦИЈ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ВЕЋ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УТР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ВН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ЊЕН  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ОЛИЗ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УБИТАК 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ЕН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30840" y="457200"/>
            <a:ext cx="8521920" cy="59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ОРЕМ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ЋАЈ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 A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СОРПЦИЈЕ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ЛДИГЕСТИЈ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нкреа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т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и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бро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холестаз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y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о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иса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о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фиц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иро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ар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ш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нутриц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секундар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Л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СОРПЦИЈА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лијач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лаз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фицит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олеран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фек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mbliа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r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krodermatitis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nt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opatica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2280" y="587520"/>
            <a:ext cx="1198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АТОГЕНЕЗ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1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ЕДОВ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Љ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У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2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A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РПЦИЈЕ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ВЕЋ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УТР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ВН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ЊЕН  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ОЛИЗ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УБИТАК 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ЕН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70000" y="1179360"/>
            <a:ext cx="9788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ВЕЋ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УТРИТИВНЕ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Т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БЕ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МАТУРУ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А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РЗО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В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ЛНУТРИ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ФЕК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ambli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i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d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ЗИС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ЛИ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СТМ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Е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РАЛ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И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ГИРА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ЕБРИЛНОС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ИРЕ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С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K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2280" y="587520"/>
            <a:ext cx="1198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АТОГЕНЕЗ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1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ЕДОВ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Љ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У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2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A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РПЦИЈЕ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3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ВЕЋ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УТРИ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ИВНЕ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Б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ЊЕН  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ОЛИЗ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УБИТАК 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ЕН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13920" y="654120"/>
            <a:ext cx="837828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МАЊ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Н 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 A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Н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БОЛИЗАМ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НГЕНИТАЛ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О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И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РОНИЧ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ЦИ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СУ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ИЈЕН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J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УБ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ИПОТИР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ФИ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П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О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АЛ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ПРИВА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2280" y="587520"/>
            <a:ext cx="1198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АТОГЕНЕЗ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1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ЕДОВ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Љ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У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2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A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РПЦИЈЕ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3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ВЕЋ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УТРИ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ИВНЕ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Б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4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СМ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ЊЕН  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БОЛИЗМ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УБИТАК 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ЕН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3480" y="971640"/>
            <a:ext cx="1017720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ВИСОК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ГУБИТАК НУТРИЈЕНАТ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жа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пе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и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к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ГИТ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ксудатив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опати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в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њ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убрег__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фротск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s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ијабе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литу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на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у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арн поре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ћај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457200" y="533520"/>
            <a:ext cx="7543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СХ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ЊЕНОСТ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ањ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утритивног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фицит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ЛОБАЛ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.)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ТИВ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лориј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лектроли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кроелемената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554040"/>
            <a:ext cx="914400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ТИОПАТОГЕНЕЗ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ОЛЕСТИ МАЈК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ешк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алнутрициј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зн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хр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ољењ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јетр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рдиопулмоналн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ољењ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  есенцијалн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хипертензиј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2.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СУФИЦИЈЕНЦИЈ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АЦЕНТ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фаркт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ацен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ацент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евиј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блациј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аценте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3.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АЊ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ЕЗА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траутерине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фекције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етаболички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ремећаји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533520"/>
            <a:ext cx="975348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ЛОБАЛ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НУТРИЦ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РН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Љ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M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 60%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В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ИО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K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60-80%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3. D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Ц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al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T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60-8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52280" y="587520"/>
            <a:ext cx="1198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АТОГЕНЕЗ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ДОВ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Љ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С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ПЦИЈ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ВЕЋ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УТР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ВН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ЊЕН  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ОЛИЗ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УБИТАК 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ЈЕН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11160" y="1371600"/>
            <a:ext cx="689148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ЕДОВОЉАН 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УНОС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НОРЕКСИЈ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ШКОЋ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ХРАЊЕЊ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ВРАЋАЊ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72800" y="628560"/>
            <a:ext cx="690768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АНОРЕКСИЈ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РОНИЧ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ЉЕЊ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УТРИ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О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ЛЕМ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23840" y="666720"/>
            <a:ext cx="791208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ШКОЋ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ХРАЊ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Њ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БНОР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С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УПЉ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ЊА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УЛБАР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И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ПРОХ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ИСП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J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18840" y="961920"/>
            <a:ext cx="66852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ВРАЋ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Њ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АСТРОЕ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УСНИ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ЛУК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ИЛОРИЧ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Е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ЉЕЊ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ТИВ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Л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3T14:27:22Z</dcterms:created>
  <dc:creator>No Name</dc:creator>
  <dc:description/>
  <dc:language>en-US</dc:language>
  <cp:lastModifiedBy>User</cp:lastModifiedBy>
  <dcterms:modified xsi:type="dcterms:W3CDTF">2020-09-27T16:52:19Z</dcterms:modified>
  <cp:revision>35</cp:revision>
  <dc:subject/>
  <dc:title>PowerPoint Presentation</dc:title>
</cp:coreProperties>
</file>