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_rels/notesSlide2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1.xml.rels" ContentType="application/vnd.openxmlformats-package.relationships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laser.wav" ContentType="audio/x-wav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5918F-9955-476A-86B5-A53065CBCF99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R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0FCE6-5D63-4CBE-8723-D25A4D8CD51D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R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1FCAF-6351-4672-92F4-0AB0082F66E4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R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F70CE-9914-4236-BA54-DFC214AF3CA0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F3F0E-CF1D-43AF-8D94-ED16A5DFC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641CA-184E-407C-A108-B14327C9B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711E3-58E4-4C47-9086-6D41957F3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72306-6D0B-40DF-BD44-3C082BC22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FAE0F-65AC-4589-AA1F-FFA55EF91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2C12D-129E-4E2A-891A-A72E4BAF1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D6D56-6D7B-44F9-8EB3-1072039FB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07877-7F07-4F6E-A2DF-F2A5CB465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1174F-9EB9-46BF-A67E-BC40A701F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C7F48-8708-4589-AF96-46CB24A28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BB539-BC65-4550-9978-BA1CB4A46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01B43-D3DA-4B67-B09A-67395954B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284B9-4FEA-4AB2-8ADA-F23BC92157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2968560"/>
            <a:ext cx="7772400" cy="16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Педијатрија – Исхрана 1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45720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Биљана Вулети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3352680" y="228600"/>
            <a:ext cx="161928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2"/>
          <p:cNvSpPr/>
          <p:nvPr/>
        </p:nvSpPr>
        <p:spPr>
          <a:xfrm>
            <a:off x="845640" y="447840"/>
            <a:ext cx="693828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ОТРЕБE ОДOЈ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Ч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ЕТА У МAСТИM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3"/>
          <p:cNvSpPr/>
          <p:nvPr/>
        </p:nvSpPr>
        <p:spPr>
          <a:xfrm>
            <a:off x="1821600" y="1828800"/>
            <a:ext cx="68346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МАСТИ  42% ЕНЕРГИЈЕ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ДНЕВНИ УНОС 5-6 гр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98% ТРИГЛИЦЕРИДИ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%    СЛОБОДНЕ МАСНЕ КИСЕЛИНЕ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0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2"/>
          <p:cNvSpPr/>
          <p:nvPr/>
        </p:nvSpPr>
        <p:spPr>
          <a:xfrm>
            <a:off x="859680" y="685800"/>
            <a:ext cx="8260920" cy="23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МОНОНЕЗАСИ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Ћ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ЕНЕ МАСНЕ КИСЕЛИНЕ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АЛМИТООЛЕИНСКА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ОЛЕИНСКА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Налазе се у скоро свим мастима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Нису неопходне у исхрани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543960" y="3854520"/>
            <a:ext cx="7967160" cy="210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ОЛИНЕЗАСИ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Ћ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ЕНЕ МАСНЕ КИСЕЛИНЕ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ЕСЕНЦИЈАЛНЕ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ЛИНОЛНА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</a:t>
            </a:r>
            <a:r>
              <a:rPr b="1" lang="sr-RS" sz="20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ЛИНОЛЕНСКА    ( мин 0,1% Е 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0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2"/>
          <p:cNvSpPr/>
          <p:nvPr/>
        </p:nvSpPr>
        <p:spPr>
          <a:xfrm>
            <a:off x="148680" y="371520"/>
            <a:ext cx="895176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ОТРЕБЕ ОДОЈ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Ч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ЕТА У  УГЉЕНИМ ХИДРАТИМ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3"/>
          <p:cNvSpPr/>
          <p:nvPr/>
        </p:nvSpPr>
        <p:spPr>
          <a:xfrm>
            <a:off x="401760" y="1994040"/>
            <a:ext cx="8351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6% Е    сахароза,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други дисахариди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монодсахариди  16%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кробне материје                                             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0%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ДНЕВНИ УНОС  10-15 гр/кг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У ОДСУСТВУ У.Х. ЗА  ЕНЕРГЕТСКЕ  ПОТРЕБЕ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МАСТИ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БЕЛАН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Ч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ЕВИНЕ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0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2"/>
          <p:cNvSpPr/>
          <p:nvPr/>
        </p:nvSpPr>
        <p:spPr>
          <a:xfrm>
            <a:off x="647640" y="304920"/>
            <a:ext cx="6726240" cy="94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ОТРЕБE OДOЈ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Ч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TА У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МИНЕРАЛ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Н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M MAТE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ЈAМ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3"/>
          <p:cNvSpPr/>
          <p:nvPr/>
        </p:nvSpPr>
        <p:spPr>
          <a:xfrm>
            <a:off x="962640" y="1712880"/>
            <a:ext cx="59616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ОДРЕЂУЈУ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РСТ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ХРАНЕ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УНОС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ИТ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Д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МИШИЋН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АКТИВНОСТ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ЕНДОКРИН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РАВНОТЕЖА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5.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НАДБУБРЕЖНИ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ХОРМОН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6.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КИСЕЛОСТ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ЦРЕВИМ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0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2"/>
          <p:cNvSpPr/>
          <p:nvPr/>
        </p:nvSpPr>
        <p:spPr>
          <a:xfrm>
            <a:off x="289080" y="270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4"/>
          <p:cNvSpPr/>
          <p:nvPr/>
        </p:nvSpPr>
        <p:spPr>
          <a:xfrm>
            <a:off x="457200" y="868320"/>
            <a:ext cx="8381880" cy="350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66"/>
                </a:solidFill>
                <a:latin typeface="Times New Roman"/>
              </a:rPr>
              <a:t>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МАКРОЕЛEMEНТИ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&gt;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0,005%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ТМ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</a:t>
            </a:r>
            <a:r>
              <a:rPr b="1" i="1" lang="sl-SI" sz="2800" spc="-1" strike="noStrike">
                <a:solidFill>
                  <a:srgbClr val="000000"/>
                </a:solidFill>
                <a:latin typeface="Times New Roman"/>
              </a:rPr>
              <a:t>Ca,P, K,Na,Mg,Cl i S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НЕОПХ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ДНИ 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З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O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ДВИ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Ј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Њ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ВИ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Т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Л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Н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Х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ФУ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Н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КЦ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ИЈ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3%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М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 Н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Р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Ђ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Н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Ч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ETA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Н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AJ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Ћ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 ДЕЛОМ У СКЕЛЕТУ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5"/>
          <p:cNvSpPr/>
          <p:nvPr/>
        </p:nvSpPr>
        <p:spPr>
          <a:xfrm>
            <a:off x="838080" y="4464000"/>
            <a:ext cx="7772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ОЛИГОМИНЕРАЛИ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ЕЛЕМЕНТИ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ТРАГУ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e</a:t>
            </a:r>
            <a:r>
              <a:rPr b="1" i="1" lang="sl-SI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u</a:t>
            </a:r>
            <a:r>
              <a:rPr b="1" i="1" lang="sl-SI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Zn</a:t>
            </a:r>
            <a:r>
              <a:rPr b="1" i="1" lang="sl-SI" sz="2800" spc="-1" strike="noStrike">
                <a:solidFill>
                  <a:srgbClr val="000000"/>
                </a:solidFill>
                <a:latin typeface="Times New Roman"/>
              </a:rPr>
              <a:t>, F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i="1" lang="sl-SI" sz="2800" spc="-1" strike="noStrike">
                <a:solidFill>
                  <a:srgbClr val="000000"/>
                </a:solidFill>
                <a:latin typeface="Times New Roman"/>
              </a:rPr>
              <a:t>, C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i="1" lang="sl-SI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sl-SI" sz="2800" spc="-1" strike="noStrike">
                <a:solidFill>
                  <a:srgbClr val="000000"/>
                </a:solidFill>
                <a:latin typeface="Times New Roman"/>
              </a:rPr>
              <a:t>e,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sl-SI" sz="28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1" i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0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2"/>
          <p:cNvSpPr/>
          <p:nvPr/>
        </p:nvSpPr>
        <p:spPr>
          <a:xfrm>
            <a:off x="767160" y="447840"/>
            <a:ext cx="743220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66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ОТРЕБ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E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ОД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ЈЧЕТА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ВИТАМ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НИ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3"/>
          <p:cNvSpPr/>
          <p:nvPr/>
        </p:nvSpPr>
        <p:spPr>
          <a:xfrm>
            <a:off x="669960" y="1565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1447920" y="1050840"/>
          <a:ext cx="6095880" cy="5738760"/>
        </p:xfrm>
        <a:graphic>
          <a:graphicData uri="http://schemas.openxmlformats.org/drawingml/2006/table">
            <a:tbl>
              <a:tblPr/>
              <a:tblGrid>
                <a:gridCol w="2031840"/>
                <a:gridCol w="2032200"/>
                <a:gridCol w="2031840"/>
              </a:tblGrid>
              <a:tr h="1241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sr-R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ТАМ</a:t>
                      </a:r>
                      <a:r>
                        <a:rPr b="1" lang="sl-SI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</a:t>
                      </a:r>
                      <a:r>
                        <a:rPr b="1" lang="sr-R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1" lang="sl-SI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-6</a:t>
                      </a:r>
                      <a:r>
                        <a:rPr b="1" lang="sr-R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С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sl-SI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-12 </a:t>
                      </a:r>
                      <a:r>
                        <a:rPr b="1" lang="sr-R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С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9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</a:t>
                      </a:r>
                      <a:r>
                        <a:rPr b="1" i="1" lang="sl-SI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 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l-SI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</a:t>
                      </a:r>
                      <a:r>
                        <a:rPr b="1" i="1" lang="sl-SI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l-SI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</a:t>
                      </a:r>
                      <a:r>
                        <a:rPr b="1" i="1" lang="sl-SI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l-SI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</a:t>
                      </a:r>
                      <a:r>
                        <a:rPr b="1" i="1" lang="sl-SI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 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l-SI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</a:t>
                      </a:r>
                      <a:r>
                        <a:rPr b="1" i="1" lang="sl-SI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l-SI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iboflavin B</a:t>
                      </a:r>
                      <a:r>
                        <a:rPr b="1" i="1" lang="sl-SI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1" i="1" lang="sl-SI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l-SI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iacin B </a:t>
                      </a:r>
                      <a:r>
                        <a:rPr b="1" i="1" lang="sl-SI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l-SI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iridoksin B </a:t>
                      </a:r>
                      <a:r>
                        <a:rPr b="1" i="1" lang="sl-SI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l-SI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    </a:t>
                      </a:r>
                      <a:r>
                        <a:rPr b="1" i="1" lang="sl-SI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 </a:t>
                      </a:r>
                      <a:r>
                        <a:rPr b="1" i="1" lang="sl-SI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r>
                        <a:rPr b="1" i="1" lang="sl-SI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1" i="1" lang="sl-SI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 RE 42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l-SI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1" i="1" lang="sl-SI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0 i.j.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l-SI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1" i="1" lang="sl-SI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g. 3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l-SI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1" i="1" lang="sl-SI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 </a:t>
                      </a:r>
                      <a:r>
                        <a:rPr b="1" i="1" lang="sl-SI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1" i="1" lang="sl-SI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l-SI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1" i="1" lang="sl-SI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 mg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l-SI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1" i="1" lang="sl-SI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3 mg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l-SI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1" i="1" lang="sl-SI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4 mg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l-SI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1" i="1" lang="sl-SI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3 mg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l-SI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1" i="1" lang="sl-SI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5</a:t>
                      </a:r>
                      <a:r>
                        <a:rPr b="1" i="1" lang="sl-SI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1" i="1" lang="sl-SI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-20  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5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6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6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5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0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2"/>
          <p:cNvSpPr/>
          <p:nvPr/>
        </p:nvSpPr>
        <p:spPr>
          <a:xfrm>
            <a:off x="380880" y="390600"/>
            <a:ext cx="845820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МАТУРАЦИЈ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МОТОРНИХ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ФУНКЦИЈ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ГИТ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3"/>
          <p:cNvSpPr/>
          <p:nvPr/>
        </p:nvSpPr>
        <p:spPr>
          <a:xfrm>
            <a:off x="457200" y="1384200"/>
            <a:ext cx="847080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-17 </a:t>
            </a:r>
            <a:r>
              <a:rPr b="1" lang="sr-RS" sz="2000" spc="-1" strike="noStrike">
                <a:solidFill>
                  <a:srgbClr val="000000"/>
                </a:solidFill>
                <a:latin typeface="Times New Roman"/>
              </a:rPr>
              <a:t>гн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sr-RS" sz="2000" spc="-1" strike="noStrike">
                <a:solidFill>
                  <a:srgbClr val="000000"/>
                </a:solidFill>
                <a:latin typeface="Times New Roman"/>
              </a:rPr>
              <a:t>ФЕТАЛНИ 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000" spc="-1" strike="noStrike">
                <a:solidFill>
                  <a:srgbClr val="000000"/>
                </a:solidFill>
                <a:latin typeface="Times New Roman"/>
              </a:rPr>
              <a:t>ПОКРЕТИ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000" spc="-1" strike="noStrike">
                <a:solidFill>
                  <a:srgbClr val="000000"/>
                </a:solidFill>
                <a:latin typeface="Times New Roman"/>
              </a:rPr>
              <a:t> ГУТАЊА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34-36 </a:t>
            </a:r>
            <a:r>
              <a:rPr b="1" lang="sr-RS" sz="2000" spc="-1" strike="noStrike">
                <a:solidFill>
                  <a:srgbClr val="000000"/>
                </a:solidFill>
                <a:latin typeface="Times New Roman"/>
              </a:rPr>
              <a:t>гн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sr-RS" sz="2000" spc="-1" strike="noStrike">
                <a:solidFill>
                  <a:srgbClr val="000000"/>
                </a:solidFill>
                <a:latin typeface="Times New Roman"/>
              </a:rPr>
              <a:t>СНАЖАН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000" spc="-1" strike="noStrike">
                <a:solidFill>
                  <a:srgbClr val="000000"/>
                </a:solidFill>
                <a:latin typeface="Times New Roman"/>
              </a:rPr>
              <a:t> РЕФЛЕКС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000" spc="-1" strike="noStrike">
                <a:solidFill>
                  <a:srgbClr val="000000"/>
                </a:solidFill>
                <a:latin typeface="Times New Roman"/>
              </a:rPr>
              <a:t> СИСАЊА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lang="sr-RS" sz="2000" spc="-1" strike="noStrike">
                <a:solidFill>
                  <a:srgbClr val="000000"/>
                </a:solidFill>
                <a:latin typeface="Times New Roman"/>
              </a:rPr>
              <a:t>ГУТАЊЕ 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000" spc="-1" strike="noStrike">
                <a:solidFill>
                  <a:srgbClr val="000000"/>
                </a:solidFill>
                <a:latin typeface="Times New Roman"/>
              </a:rPr>
              <a:t>СИНХРОНО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000" spc="-1" strike="noStrike">
                <a:solidFill>
                  <a:srgbClr val="000000"/>
                </a:solidFill>
                <a:latin typeface="Times New Roman"/>
              </a:rPr>
              <a:t> СА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000" spc="-1" strike="noStrike">
                <a:solidFill>
                  <a:srgbClr val="000000"/>
                </a:solidFill>
                <a:latin typeface="Times New Roman"/>
              </a:rPr>
              <a:t> РЕСПИРАЦИЈАМА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4-6 </a:t>
            </a:r>
            <a:r>
              <a:rPr b="1" lang="sr-RS" sz="2000" spc="-1" strike="noStrike">
                <a:solidFill>
                  <a:srgbClr val="000000"/>
                </a:solidFill>
                <a:latin typeface="Times New Roman"/>
              </a:rPr>
              <a:t>мес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sr-RS" sz="2000" spc="-1" strike="noStrike">
                <a:solidFill>
                  <a:srgbClr val="000000"/>
                </a:solidFill>
                <a:latin typeface="Times New Roman"/>
              </a:rPr>
              <a:t>ГУБИТАК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000" spc="-1" strike="noStrike">
                <a:solidFill>
                  <a:srgbClr val="000000"/>
                </a:solidFill>
                <a:latin typeface="Times New Roman"/>
              </a:rPr>
              <a:t> ЕКСТРУЗИОНОГ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000" spc="-1" strike="noStrike">
                <a:solidFill>
                  <a:srgbClr val="000000"/>
                </a:solidFill>
                <a:latin typeface="Times New Roman"/>
              </a:rPr>
              <a:t> РЕФЛЕКСА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lang="sr-RS" sz="2000" spc="-1" strike="noStrike">
                <a:solidFill>
                  <a:srgbClr val="000000"/>
                </a:solidFill>
                <a:latin typeface="Times New Roman"/>
              </a:rPr>
              <a:t>ПРИХВАТАЊЕ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000" spc="-1" strike="noStrike">
                <a:solidFill>
                  <a:srgbClr val="000000"/>
                </a:solidFill>
                <a:latin typeface="Times New Roman"/>
              </a:rPr>
              <a:t>КАШАСТЕ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000" spc="-1" strike="noStrike">
                <a:solidFill>
                  <a:srgbClr val="000000"/>
                </a:solidFill>
                <a:latin typeface="Times New Roman"/>
              </a:rPr>
              <a:t>ХРАНЕ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6-8 </a:t>
            </a:r>
            <a:r>
              <a:rPr b="1" lang="sr-RS" sz="2000" spc="-1" strike="noStrike">
                <a:solidFill>
                  <a:srgbClr val="000000"/>
                </a:solidFill>
                <a:latin typeface="Times New Roman"/>
              </a:rPr>
              <a:t>мес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sr-RS" sz="2000" spc="-1" strike="noStrike">
                <a:solidFill>
                  <a:srgbClr val="000000"/>
                </a:solidFill>
                <a:latin typeface="Times New Roman"/>
              </a:rPr>
              <a:t>МЛЕЧНА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000" spc="-1" strike="noStrike">
                <a:solidFill>
                  <a:srgbClr val="000000"/>
                </a:solidFill>
                <a:latin typeface="Times New Roman"/>
              </a:rPr>
              <a:t>ДЕНТИЦИЈА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sr-RS" sz="2000" spc="-1" strike="noStrike">
                <a:solidFill>
                  <a:srgbClr val="000000"/>
                </a:solidFill>
                <a:latin typeface="Times New Roman"/>
              </a:rPr>
              <a:t>КОНТРОЛА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000" spc="-1" strike="noStrike">
                <a:solidFill>
                  <a:srgbClr val="000000"/>
                </a:solidFill>
                <a:latin typeface="Times New Roman"/>
              </a:rPr>
              <a:t>ПРВЕ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000" spc="-1" strike="noStrike">
                <a:solidFill>
                  <a:srgbClr val="000000"/>
                </a:solidFill>
                <a:latin typeface="Times New Roman"/>
              </a:rPr>
              <a:t>ФАЗЕ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000" spc="-1" strike="noStrike">
                <a:solidFill>
                  <a:srgbClr val="000000"/>
                </a:solidFill>
                <a:latin typeface="Times New Roman"/>
              </a:rPr>
              <a:t>ГУТАЊА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7-10 </a:t>
            </a:r>
            <a:r>
              <a:rPr b="1" lang="sr-RS" sz="2000" spc="-1" strike="noStrike">
                <a:solidFill>
                  <a:srgbClr val="000000"/>
                </a:solidFill>
                <a:latin typeface="Times New Roman"/>
              </a:rPr>
              <a:t>мес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sr-RS" sz="2000" spc="-1" strike="noStrike">
                <a:solidFill>
                  <a:srgbClr val="000000"/>
                </a:solidFill>
                <a:latin typeface="Times New Roman"/>
              </a:rPr>
              <a:t>ЖВАКАЊЕ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sr-RS" sz="2000" spc="-1" strike="noStrike">
                <a:solidFill>
                  <a:srgbClr val="000000"/>
                </a:solidFill>
                <a:latin typeface="Times New Roman"/>
              </a:rPr>
              <a:t> ГРИЦКАЊЕ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2 </a:t>
            </a:r>
            <a:r>
              <a:rPr b="1" lang="sr-RS" sz="2000" spc="-1" strike="noStrike">
                <a:solidFill>
                  <a:srgbClr val="000000"/>
                </a:solidFill>
                <a:latin typeface="Times New Roman"/>
              </a:rPr>
              <a:t>мес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sr-RS" sz="2000" spc="-1" strike="noStrike">
                <a:solidFill>
                  <a:srgbClr val="000000"/>
                </a:solidFill>
                <a:latin typeface="Times New Roman"/>
              </a:rPr>
              <a:t>СЛОЖЕНИ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000" spc="-1" strike="noStrike">
                <a:solidFill>
                  <a:srgbClr val="000000"/>
                </a:solidFill>
                <a:latin typeface="Times New Roman"/>
              </a:rPr>
              <a:t>ПОКРЕТИ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000" spc="-1" strike="noStrike">
                <a:solidFill>
                  <a:srgbClr val="000000"/>
                </a:solidFill>
                <a:latin typeface="Times New Roman"/>
              </a:rPr>
              <a:t> ЖВАКАЊА 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sr-RS" sz="2000" spc="-1" strike="noStrike">
                <a:solidFill>
                  <a:srgbClr val="000000"/>
                </a:solidFill>
                <a:latin typeface="Times New Roman"/>
              </a:rPr>
              <a:t> МРВЉЕЊЕ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lang="sr-RS" sz="2000" spc="-1" strike="noStrike">
                <a:solidFill>
                  <a:srgbClr val="000000"/>
                </a:solidFill>
                <a:latin typeface="Times New Roman"/>
              </a:rPr>
              <a:t>ПРИХВАТАЊЕ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sr-RS" sz="2000" spc="-1" strike="noStrike">
                <a:solidFill>
                  <a:srgbClr val="000000"/>
                </a:solidFill>
                <a:latin typeface="Times New Roman"/>
              </a:rPr>
              <a:t>ЧВРСТЕ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000" spc="-1" strike="noStrike">
                <a:solidFill>
                  <a:srgbClr val="000000"/>
                </a:solidFill>
                <a:latin typeface="Times New Roman"/>
              </a:rPr>
              <a:t>ХРАНЕ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lang="sr-RS" sz="2000" spc="-1" strike="noStrike">
                <a:solidFill>
                  <a:srgbClr val="000000"/>
                </a:solidFill>
                <a:latin typeface="Times New Roman"/>
              </a:rPr>
              <a:t>ПОЧЕТАК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000" spc="-1" strike="noStrike">
                <a:solidFill>
                  <a:srgbClr val="000000"/>
                </a:solidFill>
                <a:latin typeface="Times New Roman"/>
              </a:rPr>
              <a:t>КОРИШЋЕЊА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000" spc="-1" strike="noStrike">
                <a:solidFill>
                  <a:srgbClr val="000000"/>
                </a:solidFill>
                <a:latin typeface="Times New Roman"/>
              </a:rPr>
              <a:t>ПРИБОРА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000" spc="-1" strike="noStrike">
                <a:solidFill>
                  <a:srgbClr val="000000"/>
                </a:solidFill>
                <a:latin typeface="Times New Roman"/>
              </a:rPr>
              <a:t>ЗА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000" spc="-1" strike="noStrike">
                <a:solidFill>
                  <a:srgbClr val="000000"/>
                </a:solidFill>
                <a:latin typeface="Times New Roman"/>
              </a:rPr>
              <a:t>ЈЕЛО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sl-SI" sz="2000" spc="-1" strike="noStrike">
                <a:solidFill>
                  <a:srgbClr val="ff00ff"/>
                </a:solidFill>
                <a:latin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0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2"/>
          <p:cNvSpPr/>
          <p:nvPr/>
        </p:nvSpPr>
        <p:spPr>
          <a:xfrm>
            <a:off x="228600" y="1152360"/>
            <a:ext cx="8686800" cy="94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ИСХРАНА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ОДОЈЧЕТА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ОСНОВНИ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ПРИНЦИПИ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346320" y="2374920"/>
            <a:ext cx="78242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1.)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 МЛЕКО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ГЛАВНИ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ИЗВОР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ХРАНЉИВИХ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МАТЕРИЈ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ЈЕДИН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ХРАН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ПРВИХ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4-6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мес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2.)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 НЕМЛЕЧН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ХРАН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С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ПУНИХ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4-6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мес.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nodeType="clickEffect" fill="hold">
                      <p:stCondLst>
                        <p:cond delay="0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2"/>
          <p:cNvSpPr/>
          <p:nvPr/>
        </p:nvSpPr>
        <p:spPr>
          <a:xfrm>
            <a:off x="895680" y="1109520"/>
            <a:ext cx="733356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МЛЕЧНИ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РЕЖИМ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ИСХРАНЕ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ОДОЈЧЕТА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922680" y="2862360"/>
            <a:ext cx="6779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ПРИРОДН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ИСХРАН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–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 МАЈЧИНО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МЛЕКО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ДВОВРСН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ИСХРАН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–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 ДОХРАЊИВАЊЕ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ВЕШТАЧК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ИСХРАН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0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2"/>
          <p:cNvSpPr/>
          <p:nvPr/>
        </p:nvSpPr>
        <p:spPr>
          <a:xfrm>
            <a:off x="1143000" y="695160"/>
            <a:ext cx="6019920" cy="94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ПРИРОДНА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ИСХРАНА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–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ДОЈЕЊЕ      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3"/>
          <p:cNvSpPr/>
          <p:nvPr/>
        </p:nvSpPr>
        <p:spPr>
          <a:xfrm>
            <a:off x="735480" y="3929040"/>
            <a:ext cx="7299360" cy="19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КОЛОСТРУМ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 4-5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дан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 (100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гр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л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протеин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,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gA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ПРЕЛАЗНО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МЛЕКО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почетком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3 недеље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ЗРЕЛО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МЛЕКО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воденасто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дискретно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плавичасто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310320" y="2000160"/>
            <a:ext cx="842940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ИДЕАЛН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ИСХРАН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ДО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КРАЈ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1 год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САМО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АКО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ОБЕЗБЕЂУЈЕ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1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Л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МЛЕК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Kal</a:t>
            </a:r>
            <a:r>
              <a:rPr b="1" i="1" lang="sl-SI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ПОТРЕБ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0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026"/>
          <p:cNvSpPr/>
          <p:nvPr/>
        </p:nvSpPr>
        <p:spPr>
          <a:xfrm>
            <a:off x="1115640" y="371520"/>
            <a:ext cx="5249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ИСХРАНA ОДOЈЧЕТ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1027"/>
          <p:cNvSpPr/>
          <p:nvPr/>
        </p:nvSpPr>
        <p:spPr>
          <a:xfrm>
            <a:off x="830880" y="1981080"/>
            <a:ext cx="7635960" cy="369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ОСНОВНЕ КАРАКТЕРИСТИКЕ У ПРВОЈ ГОДИН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. ВИСОКЕ НУТРИТИВНЕ ПОТРЕБЕ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 ФИЗИОЛОШКА НЕЗРЕЛОСТ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2"/>
          <p:cNvSpPr/>
          <p:nvPr/>
        </p:nvSpPr>
        <p:spPr>
          <a:xfrm>
            <a:off x="1279440" y="487440"/>
            <a:ext cx="580716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САСТАВ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ХУМАНОГ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МЛЕКА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3"/>
          <p:cNvSpPr/>
          <p:nvPr/>
        </p:nvSpPr>
        <p:spPr>
          <a:xfrm>
            <a:off x="33840" y="2097000"/>
            <a:ext cx="8853840" cy="381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1" lang="sr-RS" sz="2800" spc="-1" strike="noStrike" u="sng">
                <a:solidFill>
                  <a:srgbClr val="000000"/>
                </a:solidFill>
                <a:uFillTx/>
                <a:latin typeface="Times New Roman"/>
              </a:rPr>
              <a:t>ПРОТЕИН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гр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л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кравље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мл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ко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32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i="1" lang="sl-SI" sz="2400" spc="-1" strike="noStrike">
                <a:solidFill>
                  <a:srgbClr val="000000"/>
                </a:solidFill>
                <a:latin typeface="Times New Roman"/>
              </a:rPr>
              <a:t>r/l  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ЛАКТ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AL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БУМИН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3,6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gr</a:t>
            </a:r>
            <a:r>
              <a:rPr b="1" i="1" lang="sl-SI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i="1" lang="sl-SI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КАЗЕИН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3,7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gr</a:t>
            </a:r>
            <a:r>
              <a:rPr b="1" i="1" lang="sl-SI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i="1" lang="sl-SI" sz="2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i="1" lang="sr-R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25</a:t>
            </a:r>
            <a:r>
              <a:rPr b="1" i="1" lang="sl-SI" sz="2400" spc="-1" strike="noStrike">
                <a:solidFill>
                  <a:srgbClr val="000000"/>
                </a:solidFill>
                <a:latin typeface="Times New Roman"/>
              </a:rPr>
              <a:t>gr/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ИДЕАЛ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Н 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К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 С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СТ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nodeType="clickEffect" fill="hold">
                      <p:stCondLst>
                        <p:cond delay="0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2"/>
          <p:cNvSpPr/>
          <p:nvPr/>
        </p:nvSpPr>
        <p:spPr>
          <a:xfrm>
            <a:off x="3335400" y="258840"/>
            <a:ext cx="162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 u="sng">
                <a:solidFill>
                  <a:srgbClr val="000000"/>
                </a:solidFill>
                <a:uFillTx/>
                <a:latin typeface="Times New Roman"/>
              </a:rPr>
              <a:t>МАСТИ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455040" y="981000"/>
            <a:ext cx="86212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45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r</a:t>
            </a:r>
            <a:r>
              <a:rPr b="1" i="1" lang="sl-SI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i="1" lang="sl-SI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кравље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млеко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38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r</a:t>
            </a:r>
            <a:r>
              <a:rPr b="1" i="1" lang="sl-SI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i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ЛИНОЛЕНСКА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КИС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16%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3- 6%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Kal</a:t>
            </a:r>
            <a:r>
              <a:rPr b="1" i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ЛИНОЛНА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КИС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( 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мин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1-2%)              1%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208440" y="3470400"/>
            <a:ext cx="59590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sr-RS" sz="2800" spc="-1" strike="noStrike" u="sng">
                <a:solidFill>
                  <a:srgbClr val="000000"/>
                </a:solidFill>
                <a:uFillTx/>
                <a:latin typeface="Times New Roman"/>
              </a:rPr>
              <a:t>УГЉЕНИ</a:t>
            </a:r>
            <a:r>
              <a:rPr b="1" lang="sl-SI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lang="sr-RS" sz="2800" spc="-1" strike="noStrike" u="sng">
                <a:solidFill>
                  <a:srgbClr val="000000"/>
                </a:solidFill>
                <a:uFillTx/>
                <a:latin typeface="Times New Roman"/>
              </a:rPr>
              <a:t>ХИДРАТИ</a:t>
            </a:r>
            <a:r>
              <a:rPr b="1" lang="sl-SI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394560" y="4844880"/>
            <a:ext cx="8621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71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r</a:t>
            </a:r>
            <a:r>
              <a:rPr b="1" i="1" lang="sl-SI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i="1" lang="sl-SI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кравље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млеко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47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r</a:t>
            </a:r>
            <a:r>
              <a:rPr b="1" i="1" lang="sl-SI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i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ЛАКТОЗА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l-SI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                                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ЛАКТОЗА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l-SI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nodeType="clickEffect" fill="hold">
                      <p:stCondLst>
                        <p:cond delay="0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2"/>
          <p:cNvSpPr/>
          <p:nvPr/>
        </p:nvSpPr>
        <p:spPr>
          <a:xfrm>
            <a:off x="1168560" y="914400"/>
            <a:ext cx="614016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АНТИИНФЕКТИВНА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СВОЈСТВА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301320" y="1903320"/>
            <a:ext cx="7874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gA</a:t>
            </a:r>
            <a:r>
              <a:rPr b="1" i="1" lang="sl-SI" sz="2400" spc="-1" strike="noStrike">
                <a:solidFill>
                  <a:srgbClr val="000000"/>
                </a:solidFill>
                <a:latin typeface="Times New Roman"/>
              </a:rPr>
              <a:t>  1</a:t>
            </a:r>
            <a:r>
              <a:rPr b="1" i="1" lang="sr-R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g</a:t>
            </a:r>
            <a:r>
              <a:rPr b="1" i="1" lang="sl-SI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i="1" lang="sr-RS" sz="2400" spc="-1" strike="noStrike">
                <a:solidFill>
                  <a:srgbClr val="000000"/>
                </a:solidFill>
                <a:latin typeface="Times New Roman"/>
              </a:rPr>
              <a:t>м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i="1" lang="sl-SI" sz="2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КОЛОСТРУМ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20-40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g</a:t>
            </a:r>
            <a:r>
              <a:rPr b="1" i="1" lang="sr-R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l</a:t>
            </a:r>
            <a:r>
              <a:rPr b="1" i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g</a:t>
            </a:r>
            <a:r>
              <a:rPr b="1" i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sr-RS" sz="24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i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gG</a:t>
            </a:r>
            <a:r>
              <a:rPr b="1" i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4"/>
          <p:cNvSpPr/>
          <p:nvPr/>
        </p:nvSpPr>
        <p:spPr>
          <a:xfrm>
            <a:off x="838080" y="3200400"/>
            <a:ext cx="7755120" cy="3568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3366"/>
                </a:solidFill>
                <a:latin typeface="Times New Roman"/>
              </a:rPr>
              <a:t>                      </a:t>
            </a:r>
            <a:r>
              <a:rPr b="1" lang="sr-RS" sz="2800" spc="-1" strike="noStrike" u="sng">
                <a:solidFill>
                  <a:srgbClr val="000000"/>
                </a:solidFill>
                <a:uFillTx/>
                <a:latin typeface="Times New Roman"/>
              </a:rPr>
              <a:t>ПРЕБИОТ</a:t>
            </a:r>
            <a:r>
              <a:rPr b="1" lang="sl-SI" sz="2800" spc="-1" strike="noStrike" u="sng">
                <a:solidFill>
                  <a:srgbClr val="000000"/>
                </a:solidFill>
                <a:uFillTx/>
                <a:latin typeface="Times New Roman"/>
              </a:rPr>
              <a:t>I</a:t>
            </a:r>
            <a:r>
              <a:rPr b="1" lang="sr-RS" sz="2800" spc="-1" strike="noStrike" u="sng">
                <a:solidFill>
                  <a:srgbClr val="000000"/>
                </a:solidFill>
                <a:uFillTx/>
                <a:latin typeface="Times New Roman"/>
              </a:rPr>
              <a:t>К</a:t>
            </a:r>
            <a:r>
              <a:rPr b="1" lang="sl-SI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       “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олигосахаридни ,несварљиви састојци хране који     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индукују раст "корисних"   бактериј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“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П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МАЖ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Р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i="1" lang="sl-SI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sl-SI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B</a:t>
            </a:r>
            <a:r>
              <a:rPr b="1" i="1" lang="sl-SI" sz="2400" spc="-1" strike="noStrike">
                <a:solidFill>
                  <a:srgbClr val="000000"/>
                </a:solidFill>
                <a:latin typeface="Times New Roman"/>
              </a:rPr>
              <a:t>AC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sl-SI" sz="2400" spc="-1" strike="noStrike">
                <a:solidFill>
                  <a:srgbClr val="000000"/>
                </a:solidFill>
                <a:latin typeface="Times New Roman"/>
              </a:rPr>
              <a:t>LL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sl-SI" sz="2400" spc="-1" strike="noStrike">
                <a:solidFill>
                  <a:srgbClr val="000000"/>
                </a:solidFill>
                <a:latin typeface="Times New Roman"/>
              </a:rPr>
              <a:t>S BI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i="1" lang="sl-SI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i="1" lang="sl-SI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ПРОБИОТИЦИ : “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живи микроорганизми који позитивно делују на организам домаћина “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nodeType="clickEffect" fill="hold">
                      <p:stCondLst>
                        <p:cond delay="0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2"/>
          <p:cNvSpPr/>
          <p:nvPr/>
        </p:nvSpPr>
        <p:spPr>
          <a:xfrm>
            <a:off x="914400" y="979560"/>
            <a:ext cx="7467480" cy="2653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sr-RS" sz="2800" spc="-1" strike="noStrike" u="sng">
                <a:solidFill>
                  <a:srgbClr val="000000"/>
                </a:solidFill>
                <a:uFillTx/>
                <a:latin typeface="Times New Roman"/>
              </a:rPr>
              <a:t>ГВОЖЂЕ</a:t>
            </a:r>
            <a:r>
              <a:rPr b="1" lang="sl-SI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0,50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gr</a:t>
            </a:r>
            <a:r>
              <a:rPr b="1" i="1" lang="sl-SI" sz="2400" spc="-1" strike="noStrike">
                <a:solidFill>
                  <a:srgbClr val="000000"/>
                </a:solidFill>
                <a:latin typeface="Times New Roman"/>
              </a:rPr>
              <a:t> /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i="1" lang="sl-SI" sz="24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0,45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gr</a:t>
            </a:r>
            <a:r>
              <a:rPr b="1" i="1" lang="sl-SI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i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sr-R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кравље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млеко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БОЉ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ИСК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РИСТ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T –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Л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AKTO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ФЕРИН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3"/>
          <p:cNvSpPr/>
          <p:nvPr/>
        </p:nvSpPr>
        <p:spPr>
          <a:xfrm>
            <a:off x="990720" y="4373640"/>
            <a:ext cx="7086600" cy="192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28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1" i="1" lang="sr-R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sr-R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sl-SI" sz="2800" spc="-1" strike="noStrike">
                <a:solidFill>
                  <a:srgbClr val="000000"/>
                </a:solidFill>
                <a:latin typeface="Times New Roman"/>
              </a:rPr>
              <a:t>Ca / P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0,271 /  0,141 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гр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л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1,370/ 0,910            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nodeType="clickEffect" fill="hold">
                      <p:stCondLst>
                        <p:cond delay="0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3"/>
          <p:cNvSpPr/>
          <p:nvPr/>
        </p:nvSpPr>
        <p:spPr>
          <a:xfrm>
            <a:off x="839880" y="1143000"/>
            <a:ext cx="7084800" cy="289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3366"/>
                </a:solidFill>
                <a:latin typeface="Times New Roman"/>
              </a:rPr>
              <a:t>                      </a:t>
            </a:r>
            <a:r>
              <a:rPr b="1" lang="sr-RS" sz="3200" spc="-1" strike="noStrike">
                <a:solidFill>
                  <a:srgbClr val="003366"/>
                </a:solidFill>
                <a:latin typeface="Times New Roman"/>
              </a:rPr>
              <a:t>  </a:t>
            </a:r>
            <a:r>
              <a:rPr b="1" lang="sl-SI" sz="32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3366"/>
                </a:solidFill>
                <a:latin typeface="Times New Roman"/>
              </a:rPr>
              <a:t>                      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ВИТАМ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Н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Д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МАЛИ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ЈЕ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ДРЖ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AJ 100-240 </a:t>
            </a:r>
            <a:r>
              <a:rPr b="1" i="1" lang="sl-SI" sz="2400" spc="-1" strike="noStrike">
                <a:solidFill>
                  <a:srgbClr val="000000"/>
                </a:solidFill>
                <a:latin typeface="Times New Roman"/>
              </a:rPr>
              <a:t>I.J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РЕДАК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Р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ХИТ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4"/>
          <p:cNvSpPr/>
          <p:nvPr/>
        </p:nvSpPr>
        <p:spPr>
          <a:xfrm>
            <a:off x="1200240" y="4643280"/>
            <a:ext cx="66322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СВИ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ОСТАЛИ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ВИТАМИНИ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–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ОПТИМАЛНО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nodeType="clickEffect" fill="hold">
                      <p:stCondLst>
                        <p:cond delay="0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2"/>
          <p:cNvSpPr/>
          <p:nvPr/>
        </p:nvSpPr>
        <p:spPr>
          <a:xfrm>
            <a:off x="136800" y="1162080"/>
            <a:ext cx="7640280" cy="33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ЗА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ИСХРАНУ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ОД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ЈЧЕТА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КОРИСТИ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Е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1.)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МЛЕКО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РАХУ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2.)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ТЕЧНО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К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НЗУМНО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M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ЛЕКО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3.)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ВЕЖ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E-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НАТИВНО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КРАВЉЕ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МЛ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КО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0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2"/>
          <p:cNvSpPr/>
          <p:nvPr/>
        </p:nvSpPr>
        <p:spPr>
          <a:xfrm>
            <a:off x="337320" y="1035000"/>
            <a:ext cx="7264080" cy="43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ffff00"/>
                </a:solidFill>
                <a:latin typeface="Times New Roman"/>
              </a:rPr>
              <a:t>                   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1.)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МЛЕКО</a:t>
            </a:r>
            <a:r>
              <a:rPr b="1" lang="sl-SI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У</a:t>
            </a:r>
            <a:r>
              <a:rPr b="1" lang="sl-SI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ПРАХУ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Р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O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УВ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Н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ОДА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РОХЛАЂЕНА Н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A 40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т.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ОМ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ШАН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A 3 M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Р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ЦЕ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(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УПУТС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O)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ОБР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К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Н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РГ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E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K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РЕДН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sl-SI" sz="2400" spc="-1" strike="noStrike">
                <a:solidFill>
                  <a:srgbClr val="000000"/>
                </a:solidFill>
                <a:latin typeface="Times New Roman"/>
              </a:rPr>
              <a:t>75Kcal/100m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nodeType="clickEffect" fill="hold">
                      <p:stCondLst>
                        <p:cond delay="0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2"/>
          <p:cNvSpPr/>
          <p:nvPr/>
        </p:nvSpPr>
        <p:spPr>
          <a:xfrm>
            <a:off x="84240" y="76320"/>
            <a:ext cx="80146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3.)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ТЕЧНО</a:t>
            </a:r>
            <a:r>
              <a:rPr b="1" lang="sl-SI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КОНЗУМНО</a:t>
            </a:r>
            <a:r>
              <a:rPr b="1" lang="sl-SI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КРАВЉЕ</a:t>
            </a:r>
            <a:r>
              <a:rPr b="1" lang="sl-SI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МЛЕКО</a:t>
            </a:r>
            <a:r>
              <a:rPr b="1" lang="sl-SI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4"/>
          <p:cNvSpPr/>
          <p:nvPr/>
        </p:nvSpPr>
        <p:spPr>
          <a:xfrm>
            <a:off x="209160" y="1738440"/>
            <a:ext cx="8060400" cy="454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КУВАЊЕ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5-10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мин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РАЗБЛАЖИВАЊЕ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2: 1 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од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или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иринчани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одвар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ЗАСЛАЂИВАЊЕ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5-7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гр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/ 100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мл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ахароз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)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ЗАКИШЕЉАВАЊЕ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хемијско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лимун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3-5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мл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/ 100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мл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биолошко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мај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15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гр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/100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мл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i="1" lang="sl-SI" sz="2400" spc="-1" strike="noStrike">
                <a:solidFill>
                  <a:srgbClr val="000000"/>
                </a:solidFill>
                <a:latin typeface="Times New Roman"/>
              </a:rPr>
              <a:t>Lactobacillus acidophilus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i="1" lang="sl-SI" sz="2400" spc="-1" strike="noStrike">
                <a:solidFill>
                  <a:srgbClr val="000000"/>
                </a:solidFill>
                <a:latin typeface="Times New Roman"/>
              </a:rPr>
              <a:t>Lactobacillus bulgaricus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i="1" lang="sl-SI" sz="2400" spc="-1" strike="noStrike">
                <a:solidFill>
                  <a:srgbClr val="000000"/>
                </a:solidFill>
                <a:latin typeface="Times New Roman"/>
              </a:rPr>
              <a:t>Streptococcus lactis           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6- 7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 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30 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nodeType="clickEffect" fill="hold">
                      <p:stCondLst>
                        <p:cond delay="0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2"/>
          <p:cNvSpPr/>
          <p:nvPr/>
        </p:nvSpPr>
        <p:spPr>
          <a:xfrm>
            <a:off x="676440" y="1143000"/>
            <a:ext cx="8258040" cy="46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          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ПРЕДНОСТИ </a:t>
            </a:r>
            <a:r>
              <a:rPr b="1" lang="sr-R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ДOЈEЊА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БЕЗБ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ЂУЈ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ОПУНУ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ИСХРАНУ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БЕЗН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Ч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ЈНО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АЛ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РГ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ГЕН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O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Б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З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РИЗИК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ОД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осм.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ТЕР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Ћ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Њ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ОДМ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Х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Д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ТУПН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O,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НЕМ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РИПРЕМЕ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ЈЕФТ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Н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IJ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ОД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Ш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АЧКЕ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ХР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Н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nodeType="clickEffect" fill="hold">
                      <p:stCondLst>
                        <p:cond delay="0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2"/>
          <p:cNvSpPr/>
          <p:nvPr/>
        </p:nvSpPr>
        <p:spPr>
          <a:xfrm>
            <a:off x="1504080" y="434880"/>
            <a:ext cx="5056200" cy="58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НЕДОСТАТЦИ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Д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ЈЕЊА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358920" y="2139840"/>
            <a:ext cx="9013680" cy="411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РОБЛЕМ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ОДРЖАВ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Њ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ЛАКТАЦИЈЕ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asti</a:t>
            </a:r>
            <a:r>
              <a:rPr b="1" i="1" lang="sl-SI" sz="2400" spc="-1" strike="noStrike">
                <a:solidFill>
                  <a:srgbClr val="000000"/>
                </a:solidFill>
                <a:latin typeface="Times New Roman"/>
              </a:rPr>
              <a:t>ti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sl-SI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аpsсes</a:t>
            </a:r>
            <a:r>
              <a:rPr b="1" i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НЕМОГУЋНОСТ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ОДРЕЂИВАЊ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ПОСИСАНОГ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ОЛУМЕН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РЕАКЦИЈЕ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Н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ХРАНУ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КОЈУ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МАЈК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УЗИМ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nodeType="clickEffect" fill="hold">
                      <p:stCondLst>
                        <p:cond delay="0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380880" y="152280"/>
            <a:ext cx="8534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.   ЕНEРГEТСКЕ  И  НУТРИTIВНЕ  ПОТРЕБE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                       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6"/>
          <p:cNvSpPr/>
          <p:nvPr/>
        </p:nvSpPr>
        <p:spPr>
          <a:xfrm>
            <a:off x="1295280" y="3429000"/>
            <a:ext cx="244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7"/>
          <p:cNvSpPr/>
          <p:nvPr/>
        </p:nvSpPr>
        <p:spPr>
          <a:xfrm>
            <a:off x="380880" y="1295280"/>
            <a:ext cx="86108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УЗРАСТ   ДЕЦE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CommercialPi BT" charset="2"/>
              <a:buChar char="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БРЗИНА RAСТЕЊA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CommercialPi BT" charset="2"/>
              <a:buChar char="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ОЛ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CommercialPi BT" charset="2"/>
              <a:buChar char="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ТЕПEН  ЗРEЛОСTИ  ОРГАНИЗМА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ТЕЛEСНА МAСA И СТЕПЕН  УХРАЊEНОСТИ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ФИЗIЧКА  AKТ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НОСT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ГЕНEТСКИ  ФАKTОР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0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2"/>
          <p:cNvSpPr/>
          <p:nvPr/>
        </p:nvSpPr>
        <p:spPr>
          <a:xfrm>
            <a:off x="603720" y="933480"/>
            <a:ext cx="6755400" cy="100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КОНТРАИНДIКАЦИЈЕ ЗА ДОЈЕЊE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3"/>
          <p:cNvSpPr/>
          <p:nvPr/>
        </p:nvSpPr>
        <p:spPr>
          <a:xfrm>
            <a:off x="614880" y="2744640"/>
            <a:ext cx="6181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ГЛАВН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ЈЕ 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НЕСПОСОБНОСТ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РЕМЕТУРУС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Д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ИС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ОЗБИЉНЕ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,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ТЕШКЕ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БОЛЕСТИ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МАЈКЕ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БОЛЕСТ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ДЕТЕТ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nodeType="clickEffect" fill="hold">
                      <p:stCondLst>
                        <p:cond delay="0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1026"/>
          <p:cNvSpPr/>
          <p:nvPr/>
        </p:nvSpPr>
        <p:spPr>
          <a:xfrm>
            <a:off x="990720" y="1519200"/>
            <a:ext cx="7300800" cy="362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ДОПУНСКЕ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НУТРИТИВНЕ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ОТРЕБЕ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200-400 </a:t>
            </a:r>
            <a:r>
              <a:rPr b="1" i="1" lang="sl-SI" sz="2400" spc="-1" strike="noStrike">
                <a:solidFill>
                  <a:srgbClr val="000000"/>
                </a:solidFill>
                <a:latin typeface="Times New Roman"/>
              </a:rPr>
              <a:t>mgVitA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20-30 </a:t>
            </a:r>
            <a:r>
              <a:rPr b="1" i="1" lang="sl-SI" sz="2400" spc="-1" strike="noStrike">
                <a:solidFill>
                  <a:srgbClr val="000000"/>
                </a:solidFill>
                <a:latin typeface="Times New Roman"/>
              </a:rPr>
              <a:t>mgVit C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400 </a:t>
            </a:r>
            <a:r>
              <a:rPr b="1" i="1" lang="sl-SI" sz="2400" spc="-1" strike="noStrike">
                <a:solidFill>
                  <a:srgbClr val="000000"/>
                </a:solidFill>
                <a:latin typeface="Times New Roman"/>
              </a:rPr>
              <a:t>I.J VitD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nodeType="clickEffect" fill="hold">
                      <p:stCondLst>
                        <p:cond delay="0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2"/>
          <p:cNvSpPr/>
          <p:nvPr/>
        </p:nvSpPr>
        <p:spPr>
          <a:xfrm>
            <a:off x="1271880" y="649440"/>
            <a:ext cx="481068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АЛТЕРНАТИВЕ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ДОЈЕЊУ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463680" y="1905120"/>
            <a:ext cx="8680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АД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ТИРАНЕ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ФОРМУЛЕ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КРАВЉЕГ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МЛЕК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НЕАД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ТИРАН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МЛЕК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nodeType="clickEffect" fill="hold">
                      <p:stCondLst>
                        <p:cond delay="0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9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2"/>
          <p:cNvSpPr/>
          <p:nvPr/>
        </p:nvSpPr>
        <p:spPr>
          <a:xfrm>
            <a:off x="517680" y="87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1505880" y="792000"/>
            <a:ext cx="4780080" cy="94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АДАПТИРАНЕ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ФОРМУЛЕ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КРАВЉЕГ МЛЕКА 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6"/>
          <p:cNvSpPr/>
          <p:nvPr/>
        </p:nvSpPr>
        <p:spPr>
          <a:xfrm>
            <a:off x="921600" y="2805120"/>
            <a:ext cx="6127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ИСОКО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АДАПТИРАНЕ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ФОРМУЛЕ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ДЕЛИМИЧНО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АДАПТИРАНЕ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ПЕЦИЈАЛНЕ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МЛЕЧНЕ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ФОРМУЛЕ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nodeType="clickEffect" fill="hold">
                      <p:stCondLst>
                        <p:cond delay="0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2"/>
          <p:cNvSpPr/>
          <p:nvPr/>
        </p:nvSpPr>
        <p:spPr>
          <a:xfrm>
            <a:off x="404280" y="511200"/>
            <a:ext cx="7052400" cy="100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ДНЕВНЕ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КОЛИЧИНЕ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ОБРОКА   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ОТРЕБНЕ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ОД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ЈЧЕТУ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4"/>
          <p:cNvSpPr/>
          <p:nvPr/>
        </p:nvSpPr>
        <p:spPr>
          <a:xfrm>
            <a:off x="935640" y="2235240"/>
            <a:ext cx="5013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1</a:t>
            </a:r>
            <a:r>
              <a:rPr b="1" lang="sl-SI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ДАН</a:t>
            </a:r>
            <a:r>
              <a:rPr b="1" lang="sl-SI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10 –20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мл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КОЛОСТРУМ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КРАЈ 2 НЕДЕЉЕ</a:t>
            </a:r>
            <a:r>
              <a:rPr b="1" lang="sl-SI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500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мл дневно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КРАЈЕМ</a:t>
            </a:r>
            <a:r>
              <a:rPr b="1" lang="sl-SI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1 МЕСЕЦА</a:t>
            </a:r>
            <a:r>
              <a:rPr b="1" lang="sl-SI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ОКО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60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мл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КРАЈЕМ</a:t>
            </a:r>
            <a:r>
              <a:rPr b="1" lang="sl-SI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2 МЕСЕЦА</a:t>
            </a:r>
            <a:r>
              <a:rPr b="1" lang="sl-SI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ОКО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800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мл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ПОЧЕВ</a:t>
            </a:r>
            <a:r>
              <a:rPr b="1" lang="sl-SI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ОД</a:t>
            </a:r>
            <a:r>
              <a:rPr b="1" lang="sl-SI" sz="2400" spc="-1" strike="noStrike" u="sng">
                <a:solidFill>
                  <a:srgbClr val="000000"/>
                </a:solidFill>
                <a:uFillTx/>
                <a:latin typeface="Times New Roman"/>
              </a:rPr>
              <a:t> 4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МЕС</a:t>
            </a:r>
            <a:r>
              <a:rPr b="1" lang="sl-SI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1000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мл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nodeType="clickEffect" fill="hold">
                      <p:stCondLst>
                        <p:cond delay="0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2"/>
          <p:cNvSpPr/>
          <p:nvPr/>
        </p:nvSpPr>
        <p:spPr>
          <a:xfrm>
            <a:off x="749520" y="944640"/>
            <a:ext cx="656676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НЕМЛЕЧНА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ИСХРАНА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ОДОЈЧАДИ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3"/>
          <p:cNvSpPr/>
          <p:nvPr/>
        </p:nvSpPr>
        <p:spPr>
          <a:xfrm>
            <a:off x="253080" y="1870200"/>
            <a:ext cx="8526240" cy="42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4-6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МЕС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ОРАСТ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НУТРИ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НИХ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ОТРЕБА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ГВОЖЂА И ВЛАКНА 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                                </a:t>
            </a:r>
            <a:r>
              <a:rPr b="1" lang="sl-SI" sz="3200" spc="-1" strike="noStrike">
                <a:solidFill>
                  <a:srgbClr val="ffffff"/>
                </a:solidFill>
                <a:latin typeface="Times New Roman"/>
              </a:rPr>
              <a:t>PRERANOG UVOĐENJA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nodeType="clickEffect" fill="hold">
                      <p:stCondLst>
                        <p:cond delay="0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2"/>
          <p:cNvSpPr/>
          <p:nvPr/>
        </p:nvSpPr>
        <p:spPr>
          <a:xfrm>
            <a:off x="76320" y="358920"/>
            <a:ext cx="8839080" cy="1434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ИСХРАН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М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ЛОГ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ПРЕДШКОЛС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KO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Г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Д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Т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E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3"/>
          <p:cNvSpPr/>
          <p:nvPr/>
        </p:nvSpPr>
        <p:spPr>
          <a:xfrm>
            <a:off x="404280" y="2309760"/>
            <a:ext cx="61700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ЕНЕРГЕТСКИ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УНОС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 1100 –1200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Kcal</a:t>
            </a:r>
            <a:r>
              <a:rPr b="1" i="1" lang="sl-SI" sz="2400" spc="-1" strike="noStrike">
                <a:solidFill>
                  <a:srgbClr val="000000"/>
                </a:solidFill>
                <a:latin typeface="Times New Roman"/>
              </a:rPr>
              <a:t>/24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РОТЕИНСИ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УНОС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25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гр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МЛЕКО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до 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500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мл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не више од 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750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мл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5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ОБРОКА !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nodeType="clickEffect" fill="hold">
                      <p:stCondLst>
                        <p:cond delay="0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2"/>
          <p:cNvSpPr/>
          <p:nvPr/>
        </p:nvSpPr>
        <p:spPr>
          <a:xfrm>
            <a:off x="710640" y="685800"/>
            <a:ext cx="6619680" cy="100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ИСХРАН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ШКОЛС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KO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Г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ДЕТ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E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АДОЛЕЦ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НТ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3"/>
          <p:cNvSpPr/>
          <p:nvPr/>
        </p:nvSpPr>
        <p:spPr>
          <a:xfrm>
            <a:off x="762120" y="2562120"/>
            <a:ext cx="8001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ЕЋ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6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ГОД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ЕЧАЦИ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РОСЕК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U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ТРОШЕ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10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Kcal</a:t>
            </a:r>
            <a:r>
              <a:rPr b="1" i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ИШЕ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РАЗЛИК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ЗН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ЧАЈНИ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J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БЕРТ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E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400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Kcal</a:t>
            </a:r>
            <a:r>
              <a:rPr b="1" i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nodeType="clickEffect" fill="hold">
                      <p:stCondLst>
                        <p:cond delay="0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2"/>
          <p:cNvSpPr/>
          <p:nvPr/>
        </p:nvSpPr>
        <p:spPr>
          <a:xfrm>
            <a:off x="713160" y="609480"/>
            <a:ext cx="591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   ФИЗИОЛО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КА НЕЗРЕЛОСТ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3"/>
          <p:cNvSpPr/>
          <p:nvPr/>
        </p:nvSpPr>
        <p:spPr>
          <a:xfrm>
            <a:off x="189720" y="1641600"/>
            <a:ext cx="74959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ОДРЕЂУЈУ ЈЕ 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НЕЗРЕЛЕ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ГИТ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ФУНКЦИЈЕ: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МЕТАБОЛИЧКИ   ПРОЦЕСИ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РЕНАЛНА  ХОМЕОСТАЗА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0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2"/>
          <p:cNvSpPr/>
          <p:nvPr/>
        </p:nvSpPr>
        <p:spPr>
          <a:xfrm>
            <a:off x="762120" y="121932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ФАКТОРИ КОЈИ УТИЧУ НА Е и Н ПОТРЕБ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3"/>
          <p:cNvSpPr/>
          <p:nvPr/>
        </p:nvSpPr>
        <p:spPr>
          <a:xfrm>
            <a:off x="762120" y="1066680"/>
            <a:ext cx="701028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833040" y="2819520"/>
            <a:ext cx="83905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ОДРЖАВАЊЕ ПОСТОЈЕЋИХ ТКИВА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УГРАЂИВАЊЕ НОВИХ ТКИВА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ФИЗИЧКА АКТИВНОСТ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ИНДИВИДУАЛНЕ РАЗЛИКЕ У ПОТРЕБАМА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0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2"/>
          <p:cNvSpPr/>
          <p:nvPr/>
        </p:nvSpPr>
        <p:spPr>
          <a:xfrm>
            <a:off x="609480" y="1143000"/>
            <a:ext cx="8001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РЕ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П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О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УКE ДНЕВ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Н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ИХ ПОТРЕБА     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ОДOЈ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Ч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Д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И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3"/>
          <p:cNvSpPr/>
          <p:nvPr/>
        </p:nvSpPr>
        <p:spPr>
          <a:xfrm>
            <a:off x="517680" y="2098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1600200" y="2438280"/>
          <a:ext cx="6095880" cy="3902040"/>
        </p:xfrm>
        <a:graphic>
          <a:graphicData uri="http://schemas.openxmlformats.org/drawingml/2006/table">
            <a:tbl>
              <a:tblPr/>
              <a:tblGrid>
                <a:gridCol w="3048120"/>
                <a:gridCol w="3047760"/>
              </a:tblGrid>
              <a:tr h="1341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</a:t>
                      </a:r>
                      <a:r>
                        <a:rPr b="0" lang="sr-R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ЗРАСТ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cal/kg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04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-3 </a:t>
                      </a:r>
                      <a:r>
                        <a:rPr b="0" lang="sr-R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ана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</a:t>
                      </a:r>
                      <a:r>
                        <a:rPr b="0" lang="sr-R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10 </a:t>
                      </a:r>
                      <a:r>
                        <a:rPr b="0" lang="sr-R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ана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 </a:t>
                      </a:r>
                      <a:r>
                        <a:rPr b="0" lang="sr-R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сеца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 </a:t>
                      </a:r>
                      <a:r>
                        <a:rPr b="0" lang="sr-R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сеци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 </a:t>
                      </a:r>
                      <a:r>
                        <a:rPr b="0" lang="sr-R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сеци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5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5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5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0 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0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2"/>
          <p:cNvSpPr/>
          <p:nvPr/>
        </p:nvSpPr>
        <p:spPr>
          <a:xfrm>
            <a:off x="228600" y="422280"/>
            <a:ext cx="8840880" cy="61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РИ У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АВНОТЕ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Ж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Н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Ј 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ИСХРАН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П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TE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ИН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И                             12%   ЕНEР. У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Н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ОСА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МA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СТ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И                                    42%   ( 35-45%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УГЉЕНИ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Х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ДРАТ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46% (45-55%)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гр УГЉЕНИХ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Х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ДРАТA   (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О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H 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)  = 4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Kca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гр БЕЛАН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Ч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ВИ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Н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                                         4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гр МАСТИ                                                          9,3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0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2"/>
          <p:cNvSpPr/>
          <p:nvPr/>
        </p:nvSpPr>
        <p:spPr>
          <a:xfrm>
            <a:off x="2437560" y="2276640"/>
            <a:ext cx="4443480" cy="34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ВОДА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БЕЛАН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Ч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ЕВИНЕ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МАСТИ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УГЉЕНИ ХИДРАТИ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МИНЕРАЛНЕ СОЛ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ВИТАМИНИ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ЕЛЕМЕНТИ У ТРАГУ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"/>
          <p:cNvSpPr/>
          <p:nvPr/>
        </p:nvSpPr>
        <p:spPr>
          <a:xfrm>
            <a:off x="1508040" y="879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4"/>
          <p:cNvSpPr/>
          <p:nvPr/>
        </p:nvSpPr>
        <p:spPr>
          <a:xfrm>
            <a:off x="304920" y="762120"/>
            <a:ext cx="860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ХРАНЉИВЕ МАТЕРИЈЕ ЗНА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Ч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АЈНЕ У   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ИСХРАНИ ДЕЦЕ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0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2"/>
          <p:cNvSpPr/>
          <p:nvPr/>
        </p:nvSpPr>
        <p:spPr>
          <a:xfrm>
            <a:off x="669960" y="498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3"/>
          <p:cNvSpPr/>
          <p:nvPr/>
        </p:nvSpPr>
        <p:spPr>
          <a:xfrm>
            <a:off x="669960" y="803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4"/>
          <p:cNvSpPr/>
          <p:nvPr/>
        </p:nvSpPr>
        <p:spPr>
          <a:xfrm>
            <a:off x="1973520" y="380880"/>
            <a:ext cx="506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ОТРЕБЕ У ПРОТЕИНИМ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5"/>
          <p:cNvSpPr/>
          <p:nvPr/>
        </p:nvSpPr>
        <p:spPr>
          <a:xfrm>
            <a:off x="593640" y="156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1219320" y="1143000"/>
          <a:ext cx="6400800" cy="5559480"/>
        </p:xfrm>
        <a:graphic>
          <a:graphicData uri="http://schemas.openxmlformats.org/drawingml/2006/table">
            <a:tbl>
              <a:tblPr/>
              <a:tblGrid>
                <a:gridCol w="3278160"/>
                <a:gridCol w="3122640"/>
              </a:tblGrid>
              <a:tr h="1460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</a:t>
                      </a:r>
                      <a:r>
                        <a:rPr b="1" lang="sr-R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ЗРАСТ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ТРЕБА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sr-R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sr-R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ТЕИНИМА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7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-6 </a:t>
                      </a:r>
                      <a:r>
                        <a:rPr b="1" lang="sr-R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с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-12 </a:t>
                      </a:r>
                      <a:r>
                        <a:rPr b="1" lang="sr-R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с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-3 </a:t>
                      </a:r>
                      <a:r>
                        <a:rPr b="1" lang="sr-R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од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-6 </a:t>
                      </a:r>
                      <a:r>
                        <a:rPr b="1" lang="sr-R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од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-10 </a:t>
                      </a:r>
                      <a:r>
                        <a:rPr b="1" lang="sr-R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од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-14 </a:t>
                      </a:r>
                      <a:r>
                        <a:rPr b="1" lang="sr-R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од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-18 </a:t>
                      </a:r>
                      <a:r>
                        <a:rPr b="1" lang="sr-R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од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г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x 2,2 </a:t>
                      </a:r>
                      <a:r>
                        <a:rPr b="1" lang="sr-R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р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г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x 2,0 </a:t>
                      </a:r>
                      <a:r>
                        <a:rPr b="1" lang="sr-R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р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 </a:t>
                      </a:r>
                      <a:r>
                        <a:rPr b="1" lang="sr-R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р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 </a:t>
                      </a:r>
                      <a:r>
                        <a:rPr b="1" lang="sr-R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р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4 </a:t>
                      </a:r>
                      <a:r>
                        <a:rPr b="1" lang="sr-R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р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5/46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6/44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0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6T18:23:35Z</dcterms:created>
  <dc:creator>No Name</dc:creator>
  <dc:description/>
  <dc:language>en-US</dc:language>
  <cp:lastModifiedBy>User</cp:lastModifiedBy>
  <dcterms:modified xsi:type="dcterms:W3CDTF">2020-09-27T16:50:23Z</dcterms:modified>
  <cp:revision>66</cp:revision>
  <dc:subject/>
  <dc:title>PowerPoint Presentation</dc:title>
</cp:coreProperties>
</file>